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6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14.png" ContentType="image/png"/>
  <Override PartName="/ppt/media/image9.wmf" ContentType="image/x-wmf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028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642000" cy="46609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0492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790015"/>
                </a:solidFill>
                <a:latin typeface="Arial"/>
              </a:rPr>
              <a:t>Elements, Atoms, and Ions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MOLECU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the smallest unit of a compound that retains the chemical characteristics of the compound.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osition of molecules is given by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MOLECULAR FORMUL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814400" y="2805120"/>
            <a:ext cx="928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916160" y="2759040"/>
            <a:ext cx="3459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caffein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641520" y="3409920"/>
            <a:ext cx="3416040" cy="25909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101" name="01M06AN1.avi" descr=""/>
          <p:cNvPicPr/>
          <p:nvPr/>
        </p:nvPicPr>
        <p:blipFill>
          <a:blip r:embed="rId2"/>
          <a:stretch/>
        </p:blipFill>
        <p:spPr>
          <a:xfrm>
            <a:off x="5257800" y="3505320"/>
            <a:ext cx="2971800" cy="2388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 rot="2323800">
            <a:off x="7258680" y="1206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PY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 rot="16200000">
            <a:off x="3438360" y="4330800"/>
            <a:ext cx="28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N’T SKETCH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 rot="16200000">
            <a:off x="-1014480" y="4484520"/>
            <a:ext cx="28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N’T SKETCH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3"/>
          <p:cNvCxnSpPr/>
          <p:nvPr/>
        </p:nvCxnSpPr>
        <p:spPr>
          <a:xfrm flipH="1" flipV="1">
            <a:off x="7085880" y="1218960"/>
            <a:ext cx="686520" cy="219600"/>
          </a:xfrm>
          <a:prstGeom prst="straightConnector1">
            <a:avLst/>
          </a:prstGeom>
          <a:ln w="38160">
            <a:solidFill>
              <a:srgbClr val="009d00"/>
            </a:solidFill>
            <a:miter/>
            <a:tailEnd len="med" type="arrow" w="med"/>
          </a:ln>
        </p:spPr>
      </p:cxnSp>
      <p:cxnSp>
        <p:nvCxnSpPr>
          <p:cNvPr id="106" name="Straight Arrow Connector 5"/>
          <p:cNvCxnSpPr/>
          <p:nvPr/>
        </p:nvCxnSpPr>
        <p:spPr>
          <a:xfrm flipH="1">
            <a:off x="6933600" y="1600200"/>
            <a:ext cx="991080" cy="457920"/>
          </a:xfrm>
          <a:prstGeom prst="straightConnector1">
            <a:avLst/>
          </a:prstGeom>
          <a:ln w="38160">
            <a:solidFill>
              <a:srgbClr val="009d00"/>
            </a:solidFill>
            <a:miter/>
            <a:tailEnd len="med" type="arrow" w="med"/>
          </a:ln>
        </p:spPr>
      </p:cxn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4167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7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9100"/>
                </a:solidFill>
                <a:latin typeface="Comic Sans MS"/>
              </a:rPr>
              <a:t>ELEMENTS THAT EXIST AS </a:t>
            </a:r>
            <a:r>
              <a:rPr b="1" lang="en-US" sz="3200" spc="-1" strike="noStrike" u="sng">
                <a:solidFill>
                  <a:srgbClr val="ef9100"/>
                </a:solidFill>
                <a:uFillTx/>
                <a:latin typeface="Comic Sans MS"/>
              </a:rPr>
              <a:t>DIATOMIC</a:t>
            </a:r>
            <a:r>
              <a:rPr b="1" lang="en-US" sz="3200" spc="-1" strike="noStrike">
                <a:solidFill>
                  <a:srgbClr val="ef9100"/>
                </a:solidFill>
                <a:latin typeface="Comic Sans MS"/>
              </a:rPr>
              <a:t> MOLEC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5137200" cy="40388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5486400" y="1523880"/>
            <a:ext cx="327672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member: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 HONClIF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trick for remembering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ther Honcliff”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se element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xist as PAIRS. Note that when they combine to make compounds, they are no longer elements so they are no longer in pairs!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 rot="2323800">
            <a:off x="7487640" y="565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PY ALL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990720" y="5124600"/>
            <a:ext cx="28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N’T SKETCH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27c"/>
                </a:solidFill>
                <a:latin typeface="Arial"/>
                <a:ea typeface="Times New Roman"/>
              </a:rPr>
              <a:t>Dalton’s Atomic The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ohn Dalton (1766-1844) proposed an atomic the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this theory was not completely correct, it revolutionized how chemists looked at matter and brought about chemistry as we know it today instead of alchem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us, it’s an important landmark in the history of scienc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 rot="1917000">
            <a:off x="7099200" y="685800"/>
            <a:ext cx="20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AD ONLY!!!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27c"/>
                </a:solidFill>
                <a:latin typeface="Arial"/>
                <a:ea typeface="Times New Roman"/>
              </a:rPr>
              <a:t>Dalton’s Atomic Theory -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9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tter is composed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divisib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articles (atom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 atoms of a particular element are ident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elements have different ato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oms combine in certa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ole-numb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atio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a chemical reaction, atoms are mere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rrang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o form new compounds; they are not created, destroyed, or changed into atoms of any other ele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 rot="2323800">
            <a:off x="7257600" y="11671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AD ONLY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27c"/>
                </a:solidFill>
                <a:latin typeface="Arial"/>
                <a:ea typeface="Times New Roman"/>
              </a:rPr>
              <a:t>Problems with Dalton’s Atomic Theor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matter is composed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ivisi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rti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toms Can Be Divided, but only in a nuclear re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all atoms of a particular element are identical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Does Not Account for Isotopes (atoms of the same element but a different mass due to a different number of neutrons)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different elements have different ato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YE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atoms combine in cert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ole-numb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ti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YES! Called the Law of Definite Propor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In a chemical reaction, atoms are mere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rrang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form new compounds; they are not created, destroyed, or changed into atoms of any other ele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Yes, except for nuclear reactions that can change atoms of one element to a different el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 rot="2323800">
            <a:off x="7227360" y="862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PY ALL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ATOM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COMPOS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27"/>
          <p:cNvSpPr/>
          <p:nvPr/>
        </p:nvSpPr>
        <p:spPr>
          <a:xfrm>
            <a:off x="588960" y="2671920"/>
            <a:ext cx="6730920" cy="35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ns and neutron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us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electrons is equal to the number of protons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in space around the nucleus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s are extremely small. One teaspoon of water has 3 times as many atoms as the Atlantic Ocean has teaspoons of water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28"/>
          <p:cNvSpPr/>
          <p:nvPr/>
        </p:nvSpPr>
        <p:spPr>
          <a:xfrm>
            <a:off x="749160" y="1609560"/>
            <a:ext cx="34016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tom is mostly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ty spac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02M14AN1.avi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419720" cy="27846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/>
          <p:cNvSpPr/>
          <p:nvPr/>
        </p:nvSpPr>
        <p:spPr>
          <a:xfrm rot="2323800">
            <a:off x="6497280" y="36896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PY ALL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2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ATOMIC COMPOSI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19960" indent="-21996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rotons (p</a:t>
            </a:r>
            <a:r>
              <a:rPr b="1" lang="en-US" sz="28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ve (+) electrical char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 =  1.672623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ve mass  =  1.007 atom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 units (amu)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ut we can round to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Electrons (e</a:t>
            </a:r>
            <a:r>
              <a:rPr b="1" lang="en-US" sz="28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ative (-) electrical char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ve mass  =  0.00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ut we can round to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Neutrons (n</a:t>
            </a:r>
            <a:r>
              <a:rPr b="1" lang="en-US" sz="2800" spc="-1" strike="noStrike" baseline="30000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(0) electrical char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  =  1.009 amu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ut we can round to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787320" y="1143000"/>
            <a:ext cx="711216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 rot="2323800">
            <a:off x="6793920" y="14720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PY ALL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Comic Sans MS"/>
              </a:rPr>
              <a:t>Atomic Number, Z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16256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l atoms of the same element have the same number of protons in the nucleus, which we call “Z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533520" y="1828800"/>
            <a:ext cx="7619760" cy="0"/>
          </a:xfrm>
          <a:prstGeom prst="line">
            <a:avLst/>
          </a:prstGeom>
          <a:ln w="2844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676520" y="4343400"/>
            <a:ext cx="1447560" cy="160020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059200" y="42814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129040" y="4815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754640" y="5424480"/>
            <a:ext cx="12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.981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"/>
          <p:cNvGrpSpPr/>
          <p:nvPr/>
        </p:nvGrpSpPr>
        <p:grpSpPr>
          <a:xfrm>
            <a:off x="2895480" y="4255920"/>
            <a:ext cx="3840840" cy="520560"/>
            <a:chOff x="2895480" y="4255920"/>
            <a:chExt cx="3840840" cy="520560"/>
          </a:xfrm>
        </p:grpSpPr>
        <p:sp>
          <p:nvSpPr>
            <p:cNvPr id="138" name="Line 10"/>
            <p:cNvSpPr/>
            <p:nvPr/>
          </p:nvSpPr>
          <p:spPr>
            <a:xfrm flipH="1">
              <a:off x="2895480" y="457200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1"/>
            <p:cNvSpPr/>
            <p:nvPr/>
          </p:nvSpPr>
          <p:spPr>
            <a:xfrm>
              <a:off x="3951000" y="4255920"/>
              <a:ext cx="278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tomic number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2"/>
          <p:cNvGrpSpPr/>
          <p:nvPr/>
        </p:nvGrpSpPr>
        <p:grpSpPr>
          <a:xfrm>
            <a:off x="2666880" y="4800600"/>
            <a:ext cx="4036320" cy="520560"/>
            <a:chOff x="2666880" y="4800600"/>
            <a:chExt cx="4036320" cy="520560"/>
          </a:xfrm>
        </p:grpSpPr>
        <p:sp>
          <p:nvSpPr>
            <p:cNvPr id="141" name="Line 13"/>
            <p:cNvSpPr/>
            <p:nvPr/>
          </p:nvSpPr>
          <p:spPr>
            <a:xfrm flipH="1">
              <a:off x="2666880" y="51055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4"/>
            <p:cNvSpPr/>
            <p:nvPr/>
          </p:nvSpPr>
          <p:spPr>
            <a:xfrm>
              <a:off x="3599280" y="4800600"/>
              <a:ext cx="310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hemical symbol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5"/>
          <p:cNvGrpSpPr/>
          <p:nvPr/>
        </p:nvGrpSpPr>
        <p:grpSpPr>
          <a:xfrm>
            <a:off x="2971800" y="5424480"/>
            <a:ext cx="5196240" cy="520560"/>
            <a:chOff x="2971800" y="5424480"/>
            <a:chExt cx="5196240" cy="520560"/>
          </a:xfrm>
        </p:grpSpPr>
        <p:sp>
          <p:nvSpPr>
            <p:cNvPr id="144" name="Line 16"/>
            <p:cNvSpPr/>
            <p:nvPr/>
          </p:nvSpPr>
          <p:spPr>
            <a:xfrm flipH="1">
              <a:off x="2971800" y="5715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7"/>
            <p:cNvSpPr/>
            <p:nvPr/>
          </p:nvSpPr>
          <p:spPr>
            <a:xfrm>
              <a:off x="3942720" y="5424480"/>
              <a:ext cx="422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VERAGE Atomic Mass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Box 17"/>
          <p:cNvSpPr/>
          <p:nvPr/>
        </p:nvSpPr>
        <p:spPr>
          <a:xfrm rot="2323800">
            <a:off x="6984360" y="7862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PY ALL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Comic Sans MS"/>
              </a:rPr>
              <a:t>Mass Number, 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 atom with 6 protons and 6 neutrons is the mass standar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12 atomic mass un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Mass Numb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A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# protons  +  # neutr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on the periodic table…(it is the AVERAGE atomic mass on the tabl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oron atom can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 =  5 p  +  5 n  =  10 am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781680" y="4495680"/>
            <a:ext cx="1803600" cy="20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3276720" y="5257800"/>
            <a:ext cx="1965240" cy="11271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151" name="TextBox 5"/>
          <p:cNvSpPr/>
          <p:nvPr/>
        </p:nvSpPr>
        <p:spPr>
          <a:xfrm rot="2323800">
            <a:off x="7048080" y="7099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py ALL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 rot="2323800">
            <a:off x="5167440" y="55911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ketch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a27c"/>
                </a:solidFill>
                <a:latin typeface="Arial"/>
              </a:rPr>
              <a:t>Atomic Symbo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w the name of the element, a hyphen, and the mass number in hyphen no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sodium-2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w the mass number and atomic number in nuclear symbol 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mass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3429000" y="5410080"/>
            <a:ext cx="9907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"/>
          <p:cNvSpPr/>
          <p:nvPr/>
        </p:nvSpPr>
        <p:spPr>
          <a:xfrm flipV="1">
            <a:off x="3352680" y="6171840"/>
            <a:ext cx="106704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 rot="2323800">
            <a:off x="7038360" y="26229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py ALL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9100"/>
                </a:solidFill>
                <a:latin typeface="Comic Sans MS"/>
              </a:rPr>
              <a:t>The Language of Chemist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EL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substances that cannot be decomposed by ordinary means to other substanc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358640" y="5959440"/>
            <a:ext cx="1481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3997440" y="2689200"/>
            <a:ext cx="4324320" cy="35622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44" name="Rectangle 6"/>
          <p:cNvSpPr/>
          <p:nvPr/>
        </p:nvSpPr>
        <p:spPr>
          <a:xfrm>
            <a:off x="7149600" y="5730840"/>
            <a:ext cx="1621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min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797280" y="4816440"/>
            <a:ext cx="1915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uminum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1076400" y="2882880"/>
            <a:ext cx="2076480" cy="30225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47" name="TextBox 8"/>
          <p:cNvSpPr/>
          <p:nvPr/>
        </p:nvSpPr>
        <p:spPr>
          <a:xfrm rot="2323800">
            <a:off x="7408080" y="14270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PY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 rot="16200000">
            <a:off x="-658800" y="4240080"/>
            <a:ext cx="28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N’T SKETCH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16200000">
            <a:off x="2341080" y="4251240"/>
            <a:ext cx="28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N’T SKETCH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ounting Protons, Neutrons, and Electr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oton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omic Number (from periodic tab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lectron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it’s an atom, the protons and electrons must be the SAME so that it is has a net charge of zero (equal numbers of + and -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eutron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ss Number minus the number of protons (mass number is protons and neutron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cause the mass of electrons is negligi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Straight Arrow Connector 2"/>
          <p:cNvCxnSpPr/>
          <p:nvPr/>
        </p:nvCxnSpPr>
        <p:spPr>
          <a:xfrm>
            <a:off x="4876560" y="5562720"/>
            <a:ext cx="53388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TextBox 3"/>
          <p:cNvSpPr/>
          <p:nvPr/>
        </p:nvSpPr>
        <p:spPr>
          <a:xfrm>
            <a:off x="2935440" y="5867280"/>
            <a:ext cx="60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eans we can ignore electrons’ weight because it’s SO TINY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 rot="2323800">
            <a:off x="7373520" y="565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py ALL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00100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9100"/>
                </a:solidFill>
                <a:latin typeface="Comic Sans MS"/>
              </a:rPr>
              <a:t>The Language of Chemist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lements, their names, and symbols are given on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ERIODIC T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There are 118 of th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968640" y="2590920"/>
            <a:ext cx="474660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53" name="TextBox 4"/>
          <p:cNvSpPr/>
          <p:nvPr/>
        </p:nvSpPr>
        <p:spPr>
          <a:xfrm rot="2323800">
            <a:off x="7146360" y="405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AD ONLY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Comic Sans MS"/>
              </a:rPr>
              <a:t>The Periodic Tabl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43200" y="586728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7000"/>
          </a:bodyPr>
          <a:p>
            <a:pPr marL="13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mitri Mendeleev  (1834 - 190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her of the Periodic Tabl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38400" y="1047600"/>
            <a:ext cx="6642000" cy="46609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246240" y="3095640"/>
            <a:ext cx="2377800" cy="30942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58" name="TextBox 5"/>
          <p:cNvSpPr/>
          <p:nvPr/>
        </p:nvSpPr>
        <p:spPr>
          <a:xfrm rot="2323800">
            <a:off x="7258320" y="6321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AD ONLY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2392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90015"/>
                </a:solidFill>
                <a:latin typeface="Comic Sans MS"/>
              </a:rPr>
              <a:t>Glenn Seaborg</a:t>
            </a:r>
            <a:br>
              <a:rPr sz="4000"/>
            </a:br>
            <a:r>
              <a:rPr b="1" lang="en-US" sz="4000" spc="-1" strike="noStrike">
                <a:solidFill>
                  <a:srgbClr val="790015"/>
                </a:solidFill>
                <a:latin typeface="Comic Sans MS"/>
              </a:rPr>
              <a:t>(1912-1999 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iscovered 8 new elemen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nly living person for whom an element was nam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09480" y="628560"/>
            <a:ext cx="3949920" cy="5295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62" name="TextBox 4"/>
          <p:cNvSpPr/>
          <p:nvPr/>
        </p:nvSpPr>
        <p:spPr>
          <a:xfrm rot="2323800">
            <a:off x="6994080" y="53582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AD ONLY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1M04AN1.avi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3733560" cy="2762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69339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An atom consists of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ucle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utr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lectr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space about the nucleu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27"/>
          <p:cNvSpPr/>
          <p:nvPr/>
        </p:nvSpPr>
        <p:spPr>
          <a:xfrm>
            <a:off x="152280" y="98280"/>
            <a:ext cx="3810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9100"/>
                </a:solidFill>
                <a:latin typeface="Comic Sans MS"/>
              </a:rPr>
              <a:t>The Atom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33"/>
          <p:cNvSpPr/>
          <p:nvPr/>
        </p:nvSpPr>
        <p:spPr>
          <a:xfrm>
            <a:off x="685800" y="1066680"/>
            <a:ext cx="76201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035"/>
          <p:cNvGrpSpPr/>
          <p:nvPr/>
        </p:nvGrpSpPr>
        <p:grpSpPr>
          <a:xfrm>
            <a:off x="3123720" y="4803840"/>
            <a:ext cx="4019400" cy="454680"/>
            <a:chOff x="3123720" y="4803840"/>
            <a:chExt cx="4019400" cy="454680"/>
          </a:xfrm>
        </p:grpSpPr>
        <p:sp>
          <p:nvSpPr>
            <p:cNvPr id="68" name="Rectangle 1029"/>
            <p:cNvSpPr/>
            <p:nvPr/>
          </p:nvSpPr>
          <p:spPr>
            <a:xfrm>
              <a:off x="5777640" y="48038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Nucleus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031"/>
            <p:cNvSpPr/>
            <p:nvPr/>
          </p:nvSpPr>
          <p:spPr>
            <a:xfrm flipH="1">
              <a:off x="3123720" y="5046840"/>
              <a:ext cx="2667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034"/>
          <p:cNvGrpSpPr/>
          <p:nvPr/>
        </p:nvGrpSpPr>
        <p:grpSpPr>
          <a:xfrm>
            <a:off x="3733560" y="4038480"/>
            <a:ext cx="4133880" cy="454680"/>
            <a:chOff x="3733560" y="4038480"/>
            <a:chExt cx="4133880" cy="454680"/>
          </a:xfrm>
        </p:grpSpPr>
        <p:sp>
          <p:nvSpPr>
            <p:cNvPr id="71" name="Rectangle 1028"/>
            <p:cNvSpPr/>
            <p:nvPr/>
          </p:nvSpPr>
          <p:spPr>
            <a:xfrm>
              <a:off x="5569200" y="4038480"/>
              <a:ext cx="229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Electron cloud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32"/>
            <p:cNvSpPr/>
            <p:nvPr/>
          </p:nvSpPr>
          <p:spPr>
            <a:xfrm flipH="1">
              <a:off x="3733560" y="4281480"/>
              <a:ext cx="185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11"/>
          <p:cNvSpPr/>
          <p:nvPr/>
        </p:nvSpPr>
        <p:spPr>
          <a:xfrm rot="2323800">
            <a:off x="6952680" y="1243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PY ALL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2"/>
          <p:cNvSpPr/>
          <p:nvPr/>
        </p:nvSpPr>
        <p:spPr>
          <a:xfrm rot="2323800">
            <a:off x="628920" y="5587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KETCH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91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933960" y="2895480"/>
            <a:ext cx="16002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Copper atoms on silica </a:t>
            </a:r>
            <a:br>
              <a:rPr sz="2400"/>
            </a:b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surface.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53316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ATOM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the smallest particle of an element that has the chemical properties of the elem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876240" y="2070000"/>
            <a:ext cx="5854680" cy="3581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78" name="Text Box 5"/>
          <p:cNvSpPr/>
          <p:nvPr/>
        </p:nvSpPr>
        <p:spPr>
          <a:xfrm>
            <a:off x="53352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stance across = 1.8 nanometer (1.8 x 10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m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 rot="2323800">
            <a:off x="7290360" y="7491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PY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 rot="16200000">
            <a:off x="-890640" y="3630600"/>
            <a:ext cx="28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N’T SKETCH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2"/>
          <p:cNvCxnSpPr/>
          <p:nvPr/>
        </p:nvCxnSpPr>
        <p:spPr>
          <a:xfrm flipH="1">
            <a:off x="7085880" y="981000"/>
            <a:ext cx="686520" cy="162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38120" y="2743200"/>
            <a:ext cx="4419720" cy="3276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d compound is composed o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</a:t>
            </a:r>
            <a:r>
              <a:rPr b="1" lang="en-US" sz="2800" spc="-1" strike="noStrike">
                <a:solidFill>
                  <a:srgbClr val="bcbcbc"/>
                </a:solidFill>
                <a:latin typeface="Arial"/>
              </a:rPr>
              <a:t>nickel (Ni) (silver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bon (C) (black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hydrogen (H) (white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oxygen (O) (red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nitrogen (N) (blue)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22860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CHEMICAL COMPOUND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cur when atoms combine, and can be un-combined to those atoms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609480" y="2146320"/>
            <a:ext cx="3268800" cy="4203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85" name="TextBox 4"/>
          <p:cNvSpPr/>
          <p:nvPr/>
        </p:nvSpPr>
        <p:spPr>
          <a:xfrm rot="2323800">
            <a:off x="7487280" y="5205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PY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 rot="16200000">
            <a:off x="-888840" y="4370400"/>
            <a:ext cx="28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N’T SKETCH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2"/>
          <p:cNvCxnSpPr/>
          <p:nvPr/>
        </p:nvCxnSpPr>
        <p:spPr>
          <a:xfrm flipH="1">
            <a:off x="7771680" y="752400"/>
            <a:ext cx="305640" cy="86400"/>
          </a:xfrm>
          <a:prstGeom prst="straightConnector1">
            <a:avLst/>
          </a:prstGeom>
          <a:ln w="38160">
            <a:solidFill>
              <a:srgbClr val="009d00"/>
            </a:solidFill>
            <a:miter/>
            <a:tailEnd len="med" type="arrow" w="med"/>
          </a:ln>
        </p:spPr>
      </p:cxn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a27c"/>
                </a:solidFill>
                <a:latin typeface="Arial"/>
              </a:rPr>
              <a:t>Compounds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ed of 2 or more elements in a fixed rat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ties differ from those of individual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table salt (NaC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salt"/>
          <p:cNvPicPr/>
          <p:nvPr/>
        </p:nvPicPr>
        <p:blipFill>
          <a:blip r:embed="rId1"/>
          <a:stretch/>
        </p:blipFill>
        <p:spPr>
          <a:xfrm>
            <a:off x="6477120" y="2286000"/>
            <a:ext cx="1771560" cy="34956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 rot="16200000">
            <a:off x="-684360" y="38084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PY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4749480" y="3936960"/>
            <a:ext cx="28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N’T SKETCH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2"/>
          <p:cNvCxnSpPr>
            <a:stCxn id="89" idx="1"/>
          </p:cNvCxnSpPr>
          <p:nvPr/>
        </p:nvCxnSpPr>
        <p:spPr>
          <a:xfrm flipV="1">
            <a:off x="457200" y="3123360"/>
            <a:ext cx="534240" cy="839160"/>
          </a:xfrm>
          <a:prstGeom prst="straightConnector1">
            <a:avLst/>
          </a:prstGeom>
          <a:ln w="38160">
            <a:solidFill>
              <a:srgbClr val="009d00"/>
            </a:solidFill>
            <a:miter/>
            <a:tailEnd len="med" type="arrow" w="med"/>
          </a:ln>
        </p:spPr>
      </p:cxnSp>
      <p:cxnSp>
        <p:nvCxnSpPr>
          <p:cNvPr id="94" name="Straight Arrow Connector 6"/>
          <p:cNvCxnSpPr/>
          <p:nvPr/>
        </p:nvCxnSpPr>
        <p:spPr>
          <a:xfrm>
            <a:off x="461520" y="4167000"/>
            <a:ext cx="529200" cy="1080"/>
          </a:xfrm>
          <a:prstGeom prst="straightConnector1">
            <a:avLst/>
          </a:prstGeom>
          <a:ln w="38160">
            <a:solidFill>
              <a:srgbClr val="009d00"/>
            </a:solidFill>
            <a:miter/>
            <a:tailEnd len="med" type="arrow" w="med"/>
          </a:ln>
        </p:spPr>
      </p:cxnSp>
      <p:cxnSp>
        <p:nvCxnSpPr>
          <p:cNvPr id="95" name="Straight Arrow Connector 8"/>
          <p:cNvCxnSpPr/>
          <p:nvPr/>
        </p:nvCxnSpPr>
        <p:spPr>
          <a:xfrm>
            <a:off x="461520" y="4343040"/>
            <a:ext cx="529200" cy="610200"/>
          </a:xfrm>
          <a:prstGeom prst="straightConnector1">
            <a:avLst/>
          </a:prstGeom>
          <a:ln w="38160">
            <a:solidFill>
              <a:srgbClr val="009d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12:19:23Z</dcterms:created>
  <dc:creator>Neil Rapp</dc:creator>
  <dc:description/>
  <cp:keywords>atoms ions elements protons neutrons electrons isotopes</cp:keywords>
  <dc:language>en-US</dc:language>
  <cp:lastModifiedBy>Owner</cp:lastModifiedBy>
  <cp:lastPrinted>1996-08-29T23:28:45Z</cp:lastPrinted>
  <dcterms:modified xsi:type="dcterms:W3CDTF">2012-02-26T00:08:29Z</dcterms:modified>
  <cp:revision>291</cp:revision>
  <dc:subject>Chemistry I (High School)</dc:subject>
  <dc:title>Atoms, Elements, and Ions</dc:title>
</cp:coreProperties>
</file>